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2BE0-4776-4179-B494-4769D0041B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Give us one adjective – word or 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869E-1584-4A7C-BC10-32B961C272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73F5-1024-439F-BA0A-FC10FBCC87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6DC-2EAF-4D3C-AD0B-DB29226A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C84-D937-4E65-AA7E-DAE14045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A95-FF9E-4FB1-B9F0-1F7A8952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7E73-2408-438C-8AAA-24B94119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624D-A0E2-4D33-8CE7-34AB8386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D78-0371-4BB6-889C-017747F5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0FF-6BF0-47D1-BC7A-59EA3532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A9DD-5A99-4EF4-8D33-4CC14EE0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DAF0-A68B-41D3-90A6-A63FF5FD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F87-C98C-448F-BB70-D45C5BC4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3AA5-176F-4E01-92E2-252C91FB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1EFC-27ED-4FE5-89DB-4614F8CB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C69B-6DC5-46B0-B70D-72988D7AE8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Welcome to Week 9!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Remember your Audio setup </a:t>
            </a:r>
            <a:r>
              <a:rPr b="0" lang="en-AU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81160" y="1268280"/>
            <a:ext cx="795312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effective eLearning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"/>
          <p:cNvGrpSpPr/>
          <p:nvPr/>
        </p:nvGrpSpPr>
        <p:grpSpPr>
          <a:xfrm>
            <a:off x="2050920" y="1197000"/>
            <a:ext cx="4608720" cy="3311640"/>
            <a:chOff x="2050920" y="1197000"/>
            <a:chExt cx="4608720" cy="3311640"/>
          </a:xfrm>
        </p:grpSpPr>
        <p:sp>
          <p:nvSpPr>
            <p:cNvPr id="52" name="Oval 4"/>
            <p:cNvSpPr/>
            <p:nvPr/>
          </p:nvSpPr>
          <p:spPr>
            <a:xfrm>
              <a:off x="2050920" y="1197000"/>
              <a:ext cx="2448000" cy="215928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Calibri"/>
                </a:rPr>
                <a:t>Content Knowledg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Oval 5"/>
            <p:cNvSpPr/>
            <p:nvPr/>
          </p:nvSpPr>
          <p:spPr>
            <a:xfrm>
              <a:off x="4067280" y="1197000"/>
              <a:ext cx="2592360" cy="2087640"/>
            </a:xfrm>
            <a:prstGeom prst="ellipse">
              <a:avLst/>
            </a:prstGeom>
            <a:solidFill>
              <a:srgbClr val="4bacc6">
                <a:alpha val="78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Calibri"/>
                </a:rPr>
                <a:t>Pedagog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3130200" y="2421000"/>
              <a:ext cx="2592360" cy="2087640"/>
            </a:xfrm>
            <a:prstGeom prst="ellipse">
              <a:avLst/>
            </a:prstGeom>
            <a:solidFill>
              <a:srgbClr val="8064a2">
                <a:alpha val="89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Calibri"/>
                </a:rPr>
                <a:t>Technolog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TextBox 8"/>
          <p:cNvSpPr/>
          <p:nvPr/>
        </p:nvSpPr>
        <p:spPr>
          <a:xfrm>
            <a:off x="2340000" y="522936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AKE IT AUTHENTIC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tarting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468360" y="155736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oal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hat do you want your students to know/be able to d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3059280" y="3500280"/>
            <a:ext cx="331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Learning environmen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hat tools/technologies will most effectively facilitate learning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4788000" y="155736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each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ow do you guide and challenge your student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are the possibiliti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Science_example.PNG"/>
          <p:cNvPicPr/>
          <p:nvPr/>
        </p:nvPicPr>
        <p:blipFill>
          <a:blip r:embed="rId1"/>
          <a:stretch/>
        </p:blipFill>
        <p:spPr>
          <a:xfrm>
            <a:off x="755640" y="1197000"/>
            <a:ext cx="75103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5Science_topics.png"/>
          <p:cNvPicPr/>
          <p:nvPr/>
        </p:nvPicPr>
        <p:blipFill>
          <a:blip r:embed="rId1"/>
          <a:stretch/>
        </p:blipFill>
        <p:spPr>
          <a:xfrm>
            <a:off x="1547640" y="189000"/>
            <a:ext cx="5832720" cy="160812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 rot="461400">
            <a:off x="210960" y="9583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5940360" y="134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5"/>
          <p:cNvSpPr/>
          <p:nvPr/>
        </p:nvSpPr>
        <p:spPr>
          <a:xfrm rot="21034800">
            <a:off x="610920" y="404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116000" y="1268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7"/>
          <p:cNvSpPr/>
          <p:nvPr/>
        </p:nvSpPr>
        <p:spPr>
          <a:xfrm rot="21132000">
            <a:off x="7481520" y="1087200"/>
            <a:ext cx="14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With Whom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7164360" y="765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9"/>
          <p:cNvSpPr/>
          <p:nvPr/>
        </p:nvSpPr>
        <p:spPr>
          <a:xfrm rot="685200">
            <a:off x="7710480" y="4208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87104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ere to g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549360"/>
          <a:ext cx="9144000" cy="63086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t/Context/Curricul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dag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chn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earning 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7:44:17Z</dcterms:created>
  <dc:creator>BIRT, Kirschty</dc:creator>
  <dc:description/>
  <dc:language>en-US</dc:language>
  <cp:lastModifiedBy>Harmers</cp:lastModifiedBy>
  <dcterms:modified xsi:type="dcterms:W3CDTF">2012-05-01T21:51:48Z</dcterms:modified>
  <cp:revision>177</cp:revision>
  <dc:subject/>
  <dc:title>While you’re waiting……</dc:title>
</cp:coreProperties>
</file>